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919-7584-4958-93BB-59D97F74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979-2F9D-42C5-A045-04C1CDC7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7AF-DD8F-4262-BE40-E32BB487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5ED-E1DD-42C4-89FB-41D4F96D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58CF-CEA6-463A-A5E4-9C9932A9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87EB-1863-46F7-AB64-BC9398C2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BB5-F74F-489B-9BF0-07BF686F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3FE4-9E09-4E15-85EE-750330E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2B91-8168-40A9-9513-7AE2126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2168-54ED-4519-A689-D479CD1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619A-E53C-420C-8C3E-BB2B8187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7F7-D734-46E0-AE6B-EE7633A3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58F9-56F5-47AA-BFFB-853B28F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B133-85FE-4757-A7D3-6859CD2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F76F-90E8-4332-81E7-55163081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EC9E-0B35-42B8-84BB-AD5F2CD8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3623-E657-401B-9E71-67C6C961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FC1-20FF-4D87-A0E8-0B5FBCE6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A0D-133A-4E0B-A286-C8B9302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C18-6AF4-4B37-872D-B610E674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60B-E7E0-4643-8090-6E5C8F83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13F-FBDE-42E3-91F9-6D9FF5E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9EA-D5FA-4C53-85A1-5D1E3C6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CD3-15C6-4BDE-AAC6-EEE2837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D2CB-CDFF-4C70-AF74-ADBEA885AF6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AD2A-3EF4-4558-801C-D77AEFD7429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Ayanna Fook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 you think Penguins are cool? Well read more to learn about them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581280" y="2982960"/>
            <a:ext cx="1322640" cy="892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2409840" y="2971800"/>
            <a:ext cx="3762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 are hatched from an egg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eggs need to stay warm before they’re hatch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45831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 live in Antarctica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2394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nguins eat krill and squi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also like to eat fis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5449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Penguins are very cool.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145440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0:51Z</dcterms:modified>
  <cp:revision>4</cp:revision>
  <dc:subject/>
  <dc:title>Animal Name</dc:title>
</cp:coreProperties>
</file>